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1012488" cy="7340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Img"/>
          </p:nvPr>
        </p:nvSpPr>
        <p:spPr>
          <a:xfrm>
            <a:off x="676440" y="564840"/>
            <a:ext cx="550512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ldImg"/>
          </p:nvPr>
        </p:nvSpPr>
        <p:spPr>
          <a:xfrm>
            <a:off x="676440" y="565200"/>
            <a:ext cx="5505120" cy="36702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676440" y="565200"/>
            <a:ext cx="5505120" cy="3670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n next 20 mins, describe the domain and ontology problem, the ontology specification method, its application and evaluation, and a description and evaluation of the resulting ontology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676440" y="565200"/>
            <a:ext cx="5505120" cy="3670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n next 20 mins, describe the domain and ontology problem, the ontology specification method, its application and evaluation, and a description and evaluation of the resulting ontology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676440" y="565200"/>
            <a:ext cx="5505120" cy="3670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in next 20 mins, describe the domain and ontology problem, the ontology specification method, its application and evaluation, and a description and evaluation of the resulting ontology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676440" y="565200"/>
            <a:ext cx="5505120" cy="36702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We implemented this content specification as a frame-basd  data model or ontology called  RCT schema. This model is 7 levels deep, with 188 frames or classes, and 601 unique slots or attributes. RCT Schema is available on our website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676440" y="565200"/>
            <a:ext cx="5505120" cy="3670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Now I’d like to give you a quick tour of RCT Presenter, showing you the kinds of information we have in RCT Bank and some of the things we can do because the information is now computer-understandable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This is the URL for Presenter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Lucida Grande"/>
              </a:rPr>
              <a:t>A detailed description of the study methodology and patient flow is available at http://rctbank.ucsf.edu/Presenter?518.  The RCT Presenter site is not maintained by JAMA.</a:t>
            </a:r>
            <a:endParaRPr b="0" lang="en-US" sz="5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e-mail, medicin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600" y="1820880"/>
            <a:ext cx="9358200" cy="208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2600" y="4107960"/>
            <a:ext cx="9358200" cy="208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2600" y="1820880"/>
            <a:ext cx="4566600" cy="208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37800" y="1820880"/>
            <a:ext cx="4566600" cy="208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2600" y="4107960"/>
            <a:ext cx="4566600" cy="208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37800" y="4107960"/>
            <a:ext cx="4566600" cy="208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42600" y="1820880"/>
            <a:ext cx="3013200" cy="208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07000" y="1820880"/>
            <a:ext cx="3013200" cy="208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71040" y="1820880"/>
            <a:ext cx="3013200" cy="208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2600" y="4107960"/>
            <a:ext cx="3013200" cy="208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07000" y="4107960"/>
            <a:ext cx="3013200" cy="208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71040" y="4107960"/>
            <a:ext cx="3013200" cy="208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42600" y="1820880"/>
            <a:ext cx="93582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2600" y="1820880"/>
            <a:ext cx="9358200" cy="4378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2600" y="1820880"/>
            <a:ext cx="4566600" cy="4378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37800" y="1820880"/>
            <a:ext cx="4566600" cy="4378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935820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42600" y="1820880"/>
            <a:ext cx="4566600" cy="208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37800" y="1820880"/>
            <a:ext cx="4566600" cy="4378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42600" y="4107960"/>
            <a:ext cx="4566600" cy="208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42600" y="1820880"/>
            <a:ext cx="4566600" cy="4378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37800" y="1820880"/>
            <a:ext cx="4566600" cy="208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37800" y="4107960"/>
            <a:ext cx="4566600" cy="208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2600" y="1820880"/>
            <a:ext cx="4566600" cy="208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37800" y="1820880"/>
            <a:ext cx="4566600" cy="208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2600" y="4107960"/>
            <a:ext cx="9358200" cy="2088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10998360" cy="7327800"/>
            <a:chOff x="0" y="6480"/>
            <a:chExt cx="10998360" cy="7327800"/>
          </a:xfrm>
        </p:grpSpPr>
        <p:grpSp>
          <p:nvGrpSpPr>
            <p:cNvPr id="1" name=""/>
            <p:cNvGrpSpPr/>
            <p:nvPr/>
          </p:nvGrpSpPr>
          <p:grpSpPr>
            <a:xfrm>
              <a:off x="0" y="6480"/>
              <a:ext cx="10998360" cy="7327800"/>
              <a:chOff x="0" y="6480"/>
              <a:chExt cx="10998360" cy="73278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480"/>
                <a:ext cx="10998360" cy="73278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480"/>
                <a:ext cx="10317240" cy="670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" name=""/>
            <p:cNvSpPr/>
            <p:nvPr/>
          </p:nvSpPr>
          <p:spPr>
            <a:xfrm>
              <a:off x="550800" y="1424160"/>
              <a:ext cx="10439640" cy="91800"/>
            </a:xfrm>
            <a:prstGeom prst="rect">
              <a:avLst/>
            </a:prstGeom>
            <a:solidFill>
              <a:srgbClr val="dc00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42600" y="1820880"/>
            <a:ext cx="9358200" cy="4378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spcBef>
                <a:spcPts val="799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6240" indent="-2444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6600" indent="-246240">
              <a:spcBef>
                <a:spcPts val="799"/>
              </a:spcBef>
              <a:buClr>
                <a:srgbClr val="b192ff"/>
              </a:buClr>
              <a:buSzPct val="65000"/>
              <a:buFont typeface="Monotype Sorts" charset="2"/>
              <a:buChar char="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865160" indent="-244440">
              <a:spcBef>
                <a:spcPts val="799"/>
              </a:spcBef>
              <a:buClr>
                <a:srgbClr val="fafd00"/>
              </a:buClr>
              <a:buSzPct val="6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865160" indent="-244440">
              <a:spcBef>
                <a:spcPts val="799"/>
              </a:spcBef>
              <a:buClr>
                <a:srgbClr val="ffffff"/>
              </a:buClr>
              <a:buSzPct val="6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865160" indent="-244440">
              <a:spcBef>
                <a:spcPts val="799"/>
              </a:spcBef>
              <a:buClr>
                <a:srgbClr val="ffffff"/>
              </a:buClr>
              <a:buSzPct val="6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094680" y="7089840"/>
            <a:ext cx="153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Book Antiqua"/>
              </a:rPr>
              <a:t>Copyright 2006, Ida Si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ctbank.ucsf.edu/BaT/" TargetMode="Externa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ctbank.ucsf.edu/" TargetMode="External"/><Relationship Id="rId2" Type="http://schemas.openxmlformats.org/officeDocument/2006/relationships/hyperlink" Target="http://rctbank.ucsf.edu/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ctbank.ucsf.edu/Presenter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18200" y="3430440"/>
            <a:ext cx="608904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280" rIns="9828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2000" spc="-1" strike="noStrike">
                <a:solidFill>
                  <a:srgbClr val="00dfca"/>
                </a:solidFill>
                <a:latin typeface="Book Antiqua"/>
              </a:rPr>
              <a:t>Ida Sim, MD, Ph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2000" spc="-1" strike="noStrike">
                <a:solidFill>
                  <a:srgbClr val="00dfca"/>
                </a:solidFill>
                <a:latin typeface="Book Antiqua"/>
              </a:rPr>
              <a:t>Associate Professor of Medici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2000" spc="-1" strike="noStrike">
                <a:solidFill>
                  <a:srgbClr val="00dfca"/>
                </a:solidFill>
                <a:latin typeface="Book Antiqua"/>
              </a:rPr>
              <a:t>Associate Director for Medical Informa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2000" spc="-1" strike="noStrike">
                <a:solidFill>
                  <a:srgbClr val="00dfca"/>
                </a:solidFill>
                <a:latin typeface="Book Antiqua"/>
              </a:rPr>
              <a:t>Program in Biological and Medical Informa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2000" spc="-1" strike="noStrike">
                <a:solidFill>
                  <a:srgbClr val="00dfca"/>
                </a:solidFill>
                <a:latin typeface="Book Antiqua"/>
              </a:rPr>
              <a:t>University of California, San Francisco, 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2000" spc="-1" strike="noStrike">
                <a:solidFill>
                  <a:srgbClr val="00dfca"/>
                </a:solidFill>
                <a:latin typeface="Book Antiqua"/>
              </a:rPr>
              <a:t>R01-LM-067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7120" y="1649520"/>
            <a:ext cx="99759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Book Antiqua"/>
              </a:rPr>
              <a:t>Analysis of HIV Trials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3800" spc="-1" strike="noStrike">
                <a:solidFill>
                  <a:srgbClr val="fafd00"/>
                </a:solidFill>
                <a:latin typeface="Book Antiqua"/>
              </a:rPr>
              <a:t>cBIO Driving Biological Project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Bank-a-Trial Demo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42600" y="1820880"/>
            <a:ext cx="9358200" cy="4378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rctbank.ucsf.edu/BaT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Outline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42600" y="1739880"/>
            <a:ext cx="9358200" cy="4378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rial Bank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P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6840"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DBP Goals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3760" y="1693800"/>
            <a:ext cx="9358200" cy="4378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al Bank in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spcBef>
                <a:spcPts val="700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izing collections of related but heterogenous clinical trial inst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spcBef>
                <a:spcPts val="700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ing sample HIV medical record to select “applicable” MTCT and STI trials in RCT Ba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spcBef>
                <a:spcPts val="700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-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CT Sche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spcBef>
                <a:spcPts val="700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wards a reference ontology for clinical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Goal 1: Visualization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00600" y="1676520"/>
            <a:ext cx="10018080" cy="4982400"/>
            <a:chOff x="300600" y="1676520"/>
            <a:chExt cx="10018080" cy="4982400"/>
          </a:xfrm>
        </p:grpSpPr>
        <p:sp>
          <p:nvSpPr>
            <p:cNvPr id="97" name=""/>
            <p:cNvSpPr/>
            <p:nvPr/>
          </p:nvSpPr>
          <p:spPr>
            <a:xfrm>
              <a:off x="1892160" y="2309760"/>
              <a:ext cx="0" cy="3672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0600" y="3564000"/>
              <a:ext cx="1570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Stage II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Breast C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051280" y="2211480"/>
              <a:ext cx="28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XRT and tamoxife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13920" y="5757840"/>
              <a:ext cx="14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XRT on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27800" y="2160720"/>
              <a:ext cx="0" cy="432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037240" y="3957480"/>
              <a:ext cx="2324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tamoxifen onl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81600" y="2090880"/>
              <a:ext cx="271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5 year surviv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81600" y="3117960"/>
              <a:ext cx="346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1 year local recurre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81600" y="4145040"/>
              <a:ext cx="346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5 year local recurren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81600" y="5172120"/>
              <a:ext cx="4537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5 year metastatic dissemin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81600" y="6199200"/>
              <a:ext cx="45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5 year quality of lif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23600" y="1676520"/>
              <a:ext cx="165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dfca"/>
                  </a:solidFill>
                  <a:latin typeface="Book Antiqua"/>
                </a:rPr>
                <a:t>Outcom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00200" y="1676520"/>
              <a:ext cx="21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dfca"/>
                  </a:solidFill>
                  <a:latin typeface="Book Antiqua"/>
                </a:rPr>
                <a:t>Intervention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Visualization (cont.)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57360" y="3672000"/>
            <a:ext cx="1676160" cy="691920"/>
            <a:chOff x="657360" y="3672000"/>
            <a:chExt cx="1676160" cy="691920"/>
          </a:xfrm>
        </p:grpSpPr>
        <p:sp>
          <p:nvSpPr>
            <p:cNvPr id="112" name=""/>
            <p:cNvSpPr/>
            <p:nvPr/>
          </p:nvSpPr>
          <p:spPr>
            <a:xfrm>
              <a:off x="657360" y="3678120"/>
              <a:ext cx="1676160" cy="68580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dfca"/>
                  </a:solidFill>
                  <a:latin typeface="Times New Roman"/>
                </a:rPr>
                <a:t>RCT Ban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7520" y="3672000"/>
              <a:ext cx="1650600" cy="185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648240" y="3649680"/>
            <a:ext cx="1676160" cy="691920"/>
            <a:chOff x="3648240" y="3649680"/>
            <a:chExt cx="1676160" cy="691920"/>
          </a:xfrm>
        </p:grpSpPr>
        <p:sp>
          <p:nvSpPr>
            <p:cNvPr id="115" name=""/>
            <p:cNvSpPr/>
            <p:nvPr/>
          </p:nvSpPr>
          <p:spPr>
            <a:xfrm>
              <a:off x="3648240" y="3655800"/>
              <a:ext cx="1676160" cy="68580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dfca"/>
                  </a:solidFill>
                  <a:latin typeface="Times New Roman"/>
                </a:rPr>
                <a:t>OB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68400" y="3649680"/>
              <a:ext cx="1650600" cy="185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343240" y="4054320"/>
            <a:ext cx="130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2520" y="4498920"/>
            <a:ext cx="2948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ff"/>
                </a:solidFill>
                <a:latin typeface="Book Antiqua"/>
              </a:rPr>
              <a:t>• </a:t>
            </a:r>
            <a:r>
              <a:rPr b="0" i="1" lang="en-US" sz="2000" spc="-1" strike="noStrike">
                <a:solidFill>
                  <a:srgbClr val="cc66ff"/>
                </a:solidFill>
                <a:latin typeface="Book Antiqua"/>
              </a:rPr>
              <a:t>interven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ff"/>
                </a:solidFill>
                <a:latin typeface="Book Antiqua"/>
              </a:rPr>
              <a:t>• </a:t>
            </a:r>
            <a:r>
              <a:rPr b="0" i="1" lang="en-US" sz="2000" spc="-1" strike="noStrike">
                <a:solidFill>
                  <a:srgbClr val="cc66ff"/>
                </a:solidFill>
                <a:latin typeface="Book Antiqua"/>
              </a:rPr>
              <a:t>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ff"/>
                </a:solidFill>
                <a:latin typeface="Book Antiqua"/>
              </a:rPr>
              <a:t>• </a:t>
            </a:r>
            <a:r>
              <a:rPr b="0" i="1" lang="en-US" sz="2000" spc="-1" strike="noStrike">
                <a:solidFill>
                  <a:srgbClr val="cc66ff"/>
                </a:solidFill>
                <a:latin typeface="Book Antiqua"/>
              </a:rPr>
              <a:t>outco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ff"/>
                </a:solidFill>
                <a:latin typeface="Book Antiqua"/>
              </a:rPr>
              <a:t>• </a:t>
            </a:r>
            <a:r>
              <a:rPr b="0" i="1" lang="en-US" sz="2000" spc="-1" strike="noStrike">
                <a:solidFill>
                  <a:srgbClr val="cc66ff"/>
                </a:solidFill>
                <a:latin typeface="Book Antiqua"/>
              </a:rPr>
              <a:t>number of participa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23080" y="3236760"/>
            <a:ext cx="1477800" cy="1605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4120" y="4032360"/>
            <a:ext cx="1465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548400" y="4879800"/>
            <a:ext cx="24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isualization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25520" y="2317320"/>
            <a:ext cx="3840120" cy="995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66840" indent="0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isualization meta-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6840"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egree of Interes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245280" y="3246480"/>
            <a:ext cx="1440" cy="795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15000" y="4027320"/>
            <a:ext cx="1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55600" y="296388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Book Antiqua"/>
              </a:rPr>
              <a:t>Core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63920" y="183204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Book Antiqua"/>
              </a:rPr>
              <a:t>Cor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71480" y="1789200"/>
            <a:ext cx="1514520" cy="1041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2422800" y="19144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fca"/>
                </a:solidFill>
                <a:latin typeface="Book Antiqua"/>
              </a:rPr>
              <a:t>Bank-a-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32080" y="287640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21640" y="3022560"/>
            <a:ext cx="186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ff"/>
                </a:solidFill>
                <a:latin typeface="Book Antiqua"/>
              </a:rPr>
              <a:t>MTCT/STI tri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71320" y="377352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WHO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CDISC 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8643960" y="3416400"/>
            <a:ext cx="1687320" cy="11570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8323200" y="4029120"/>
            <a:ext cx="2890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813720" y="3422520"/>
            <a:ext cx="1576080" cy="1213920"/>
            <a:chOff x="6813720" y="3422520"/>
            <a:chExt cx="1576080" cy="1213920"/>
          </a:xfrm>
        </p:grpSpPr>
        <p:sp>
          <p:nvSpPr>
            <p:cNvPr id="135" name=""/>
            <p:cNvSpPr/>
            <p:nvPr/>
          </p:nvSpPr>
          <p:spPr>
            <a:xfrm>
              <a:off x="7062480" y="3509280"/>
              <a:ext cx="0" cy="91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13720" y="38937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Stage III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Breast C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89480" y="3555720"/>
              <a:ext cx="62712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XRT and tamoxife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98480" y="4442040"/>
              <a:ext cx="38340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XRT only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35240" y="3471840"/>
              <a:ext cx="0" cy="10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85880" y="3990600"/>
              <a:ext cx="5356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tamoxifen only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75560" y="3454200"/>
              <a:ext cx="425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5 year survival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75560" y="3711600"/>
              <a:ext cx="545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1 year local recurrence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675560" y="3966840"/>
              <a:ext cx="545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5 year local recurrence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75560" y="4224240"/>
              <a:ext cx="71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5 year metastatic disseminatio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75560" y="4481640"/>
              <a:ext cx="71424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5 year quality of life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28480" y="3422520"/>
              <a:ext cx="42444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dfca"/>
                  </a:solidFill>
                  <a:latin typeface="Book Antiqua"/>
                </a:rPr>
                <a:t>Outcomes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59680" y="3422520"/>
              <a:ext cx="49932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dfca"/>
                  </a:solidFill>
                  <a:latin typeface="Book Antiqua"/>
                </a:rPr>
                <a:t>Interventions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8759160" y="457056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fca"/>
                </a:solidFill>
                <a:latin typeface="Book Antiqua"/>
              </a:rPr>
              <a:t>Pres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83124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Goal 2: Identifying Applicable Trials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2600" y="1820880"/>
            <a:ext cx="9358200" cy="4378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66840" indent="-366840">
              <a:lnSpc>
                <a:spcPct val="90000"/>
              </a:lnSpc>
              <a:spcBef>
                <a:spcPts val="700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c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n HIV patient, which STI trials are applicabl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6240" indent="-2444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atients in STI trials are “like” this pati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t to “drag and drop” EHR onto Trial Bank to pull out applicable tr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ualize these applicable trials, explore specific details of tri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6840" indent="-366840">
              <a:lnSpc>
                <a:spcPct val="90000"/>
              </a:lnSpc>
              <a:spcBef>
                <a:spcPts val="700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ological matching requir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ple EHR coded in SNOM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CT Bank trials coded in UM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6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Identifying Applicable Trials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657360" y="3672000"/>
            <a:ext cx="1676160" cy="691920"/>
            <a:chOff x="657360" y="3672000"/>
            <a:chExt cx="1676160" cy="691920"/>
          </a:xfrm>
        </p:grpSpPr>
        <p:sp>
          <p:nvSpPr>
            <p:cNvPr id="153" name=""/>
            <p:cNvSpPr/>
            <p:nvPr/>
          </p:nvSpPr>
          <p:spPr>
            <a:xfrm>
              <a:off x="657360" y="3678120"/>
              <a:ext cx="1676160" cy="68580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dfca"/>
                  </a:solidFill>
                  <a:latin typeface="Times New Roman"/>
                </a:rPr>
                <a:t>RCT Ban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7520" y="3672000"/>
              <a:ext cx="1650600" cy="185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648240" y="3649680"/>
            <a:ext cx="1676160" cy="691920"/>
            <a:chOff x="3648240" y="3649680"/>
            <a:chExt cx="1676160" cy="691920"/>
          </a:xfrm>
        </p:grpSpPr>
        <p:sp>
          <p:nvSpPr>
            <p:cNvPr id="156" name=""/>
            <p:cNvSpPr/>
            <p:nvPr/>
          </p:nvSpPr>
          <p:spPr>
            <a:xfrm>
              <a:off x="3648240" y="3655800"/>
              <a:ext cx="1676160" cy="68580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dfca"/>
                  </a:solidFill>
                  <a:latin typeface="Times New Roman"/>
                </a:rPr>
                <a:t>OB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68400" y="3649680"/>
              <a:ext cx="1650600" cy="185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343240" y="4054320"/>
            <a:ext cx="130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23080" y="3236760"/>
            <a:ext cx="1477800" cy="1605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4032360"/>
            <a:ext cx="1465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48400" y="4879800"/>
            <a:ext cx="24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isualization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925520" y="2317320"/>
            <a:ext cx="3840120" cy="995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66840" indent="0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isualization meta-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6840" indent="0" algn="ctr">
              <a:lnSpc>
                <a:spcPct val="100000"/>
              </a:lnSpc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Degree of Inter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245280" y="3246480"/>
            <a:ext cx="1440" cy="795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15000" y="4027320"/>
            <a:ext cx="1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5600" y="296388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Book Antiqua"/>
              </a:rPr>
              <a:t>Core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63920" y="183204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Book Antiqua"/>
              </a:rPr>
              <a:t>Cor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71480" y="1789200"/>
            <a:ext cx="1514520" cy="1041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2422800" y="19144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fca"/>
                </a:solidFill>
                <a:latin typeface="Book Antiqua"/>
              </a:rPr>
              <a:t>Bank-a-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287640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78440" y="302256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ff"/>
                </a:solidFill>
                <a:latin typeface="Book Antiqua"/>
              </a:rPr>
              <a:t>STI tri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71320" y="377352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WHO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CDISC 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8643960" y="3416400"/>
            <a:ext cx="1687320" cy="11570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8323200" y="4029120"/>
            <a:ext cx="2890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813720" y="3422520"/>
            <a:ext cx="1576080" cy="1213920"/>
            <a:chOff x="6813720" y="3422520"/>
            <a:chExt cx="1576080" cy="1213920"/>
          </a:xfrm>
        </p:grpSpPr>
        <p:sp>
          <p:nvSpPr>
            <p:cNvPr id="175" name=""/>
            <p:cNvSpPr/>
            <p:nvPr/>
          </p:nvSpPr>
          <p:spPr>
            <a:xfrm>
              <a:off x="7062480" y="3509280"/>
              <a:ext cx="0" cy="91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13720" y="38937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Stage III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Breast C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89480" y="3555720"/>
              <a:ext cx="62712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XRT and tamoxife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098480" y="4442040"/>
              <a:ext cx="38340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XRT only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35240" y="3471840"/>
              <a:ext cx="0" cy="10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85880" y="3990600"/>
              <a:ext cx="5356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tamoxifen only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75560" y="3454200"/>
              <a:ext cx="425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5 year survival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75560" y="3711600"/>
              <a:ext cx="545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1 year local recurrence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75560" y="3966840"/>
              <a:ext cx="545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5 year local recurrence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75560" y="4224240"/>
              <a:ext cx="71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5 year metastatic disseminatio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75560" y="4481640"/>
              <a:ext cx="71424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5 year quality of life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728480" y="3422520"/>
              <a:ext cx="42444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dfca"/>
                  </a:solidFill>
                  <a:latin typeface="Book Antiqua"/>
                </a:rPr>
                <a:t>Outcomes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59680" y="3422520"/>
              <a:ext cx="49932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dfca"/>
                  </a:solidFill>
                  <a:latin typeface="Book Antiqua"/>
                </a:rPr>
                <a:t>Interventions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88960" y="5832360"/>
            <a:ext cx="1676520" cy="691920"/>
            <a:chOff x="588960" y="5832360"/>
            <a:chExt cx="1676520" cy="691920"/>
          </a:xfrm>
        </p:grpSpPr>
        <p:sp>
          <p:nvSpPr>
            <p:cNvPr id="189" name=""/>
            <p:cNvSpPr/>
            <p:nvPr/>
          </p:nvSpPr>
          <p:spPr>
            <a:xfrm>
              <a:off x="588960" y="5838480"/>
              <a:ext cx="1676520" cy="68580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dfca"/>
                  </a:solidFill>
                  <a:latin typeface="Times New Roman"/>
                </a:rPr>
                <a:t>EH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9480" y="5832360"/>
              <a:ext cx="1650960" cy="185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01240" y="4363920"/>
            <a:ext cx="1995840" cy="1458000"/>
            <a:chOff x="201240" y="4363920"/>
            <a:chExt cx="1995840" cy="1458000"/>
          </a:xfrm>
        </p:grpSpPr>
        <p:grpSp>
          <p:nvGrpSpPr>
            <p:cNvPr id="192" name=""/>
            <p:cNvGrpSpPr/>
            <p:nvPr/>
          </p:nvGrpSpPr>
          <p:grpSpPr>
            <a:xfrm>
              <a:off x="696960" y="4883040"/>
              <a:ext cx="1500120" cy="528480"/>
              <a:chOff x="696960" y="4883040"/>
              <a:chExt cx="1500120" cy="528480"/>
            </a:xfrm>
          </p:grpSpPr>
          <p:sp>
            <p:nvSpPr>
              <p:cNvPr id="193" name=""/>
              <p:cNvSpPr/>
              <p:nvPr/>
            </p:nvSpPr>
            <p:spPr>
              <a:xfrm>
                <a:off x="696960" y="4883040"/>
                <a:ext cx="1500120" cy="496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25400" y="4890960"/>
                <a:ext cx="146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Book Antiqua"/>
                  </a:rPr>
                  <a:t>LexGrid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 flipH="1">
              <a:off x="1464840" y="4363920"/>
              <a:ext cx="1800" cy="484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1430280" y="5415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2840" y="4417920"/>
              <a:ext cx="81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66ff"/>
                  </a:solidFill>
                  <a:latin typeface="Book Antiqua"/>
                </a:rPr>
                <a:t>UM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1240" y="542304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66ff"/>
                  </a:solidFill>
                  <a:latin typeface="Book Antiqua"/>
                </a:rPr>
                <a:t>SNOM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181240" y="4398840"/>
            <a:ext cx="2674080" cy="1201680"/>
            <a:chOff x="2181240" y="4398840"/>
            <a:chExt cx="2674080" cy="1201680"/>
          </a:xfrm>
        </p:grpSpPr>
        <p:sp>
          <p:nvSpPr>
            <p:cNvPr id="200" name=""/>
            <p:cNvSpPr/>
            <p:nvPr/>
          </p:nvSpPr>
          <p:spPr>
            <a:xfrm>
              <a:off x="2859480" y="4775040"/>
              <a:ext cx="1995840" cy="825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Applicabil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Eng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193840" y="5149800"/>
              <a:ext cx="56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2181240" y="4398840"/>
              <a:ext cx="612720" cy="47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2620440" y="573552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Book Antiqua"/>
              </a:rPr>
              <a:t>Cor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759160" y="457056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fca"/>
                </a:solidFill>
                <a:latin typeface="Book Antiqua"/>
              </a:rPr>
              <a:t>Pres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Goal 3: Meta-Analysis 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42600" y="1820880"/>
            <a:ext cx="9358200" cy="4378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set of related trials, use statistical rout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spcBef>
                <a:spcPts val="700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ore statistical heterogene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spcBef>
                <a:spcPts val="700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orm quantitative meta-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Meta-Analysis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57360" y="3672000"/>
            <a:ext cx="1676160" cy="691920"/>
            <a:chOff x="657360" y="3672000"/>
            <a:chExt cx="1676160" cy="691920"/>
          </a:xfrm>
        </p:grpSpPr>
        <p:sp>
          <p:nvSpPr>
            <p:cNvPr id="209" name=""/>
            <p:cNvSpPr/>
            <p:nvPr/>
          </p:nvSpPr>
          <p:spPr>
            <a:xfrm>
              <a:off x="657360" y="3678120"/>
              <a:ext cx="1676160" cy="68580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dfca"/>
                  </a:solidFill>
                  <a:latin typeface="Times New Roman"/>
                </a:rPr>
                <a:t>RCT Ban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7520" y="3672000"/>
              <a:ext cx="1650600" cy="185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648240" y="3649680"/>
            <a:ext cx="1676160" cy="691920"/>
            <a:chOff x="3648240" y="3649680"/>
            <a:chExt cx="1676160" cy="691920"/>
          </a:xfrm>
        </p:grpSpPr>
        <p:sp>
          <p:nvSpPr>
            <p:cNvPr id="212" name=""/>
            <p:cNvSpPr/>
            <p:nvPr/>
          </p:nvSpPr>
          <p:spPr>
            <a:xfrm>
              <a:off x="3648240" y="3655800"/>
              <a:ext cx="1676160" cy="68580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dfca"/>
                  </a:solidFill>
                  <a:latin typeface="Times New Roman"/>
                </a:rPr>
                <a:t>OB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68400" y="3649680"/>
              <a:ext cx="1650600" cy="185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343240" y="4054320"/>
            <a:ext cx="130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23080" y="3236760"/>
            <a:ext cx="1477800" cy="1605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4120" y="4032360"/>
            <a:ext cx="1465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548400" y="4879800"/>
            <a:ext cx="24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Visualization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15000" y="4027320"/>
            <a:ext cx="1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66760" y="311292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Book Antiqua"/>
              </a:rPr>
              <a:t>Core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005240" y="535320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Book Antiqua"/>
              </a:rPr>
              <a:t>Cor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71480" y="1789200"/>
            <a:ext cx="1514520" cy="10414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2422800" y="1914480"/>
            <a:ext cx="189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fca"/>
                </a:solidFill>
                <a:latin typeface="Book Antiqua"/>
              </a:rPr>
              <a:t>Bank-a-T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432080" y="287640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78440" y="302256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66ff"/>
                </a:solidFill>
                <a:latin typeface="Book Antiqua"/>
              </a:rPr>
              <a:t>STI tri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71320" y="377352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WHO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CDISC X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8643960" y="3416400"/>
            <a:ext cx="1687320" cy="11570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8323200" y="4029120"/>
            <a:ext cx="2890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813720" y="3422520"/>
            <a:ext cx="1576080" cy="1213920"/>
            <a:chOff x="6813720" y="3422520"/>
            <a:chExt cx="1576080" cy="1213920"/>
          </a:xfrm>
        </p:grpSpPr>
        <p:sp>
          <p:nvSpPr>
            <p:cNvPr id="229" name=""/>
            <p:cNvSpPr/>
            <p:nvPr/>
          </p:nvSpPr>
          <p:spPr>
            <a:xfrm>
              <a:off x="7062480" y="3509280"/>
              <a:ext cx="0" cy="91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13720" y="3893760"/>
              <a:ext cx="4122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Stage III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Breast CA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89480" y="3555720"/>
              <a:ext cx="62712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XRT and tamoxife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8480" y="4442040"/>
              <a:ext cx="38340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XRT only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35240" y="3471840"/>
              <a:ext cx="0" cy="10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085880" y="3990600"/>
              <a:ext cx="53568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tamoxifen only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75560" y="3454200"/>
              <a:ext cx="425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5 year survival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75560" y="3711600"/>
              <a:ext cx="545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1 year local recurrence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75560" y="3966840"/>
              <a:ext cx="545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5 year local recurrence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75560" y="4224240"/>
              <a:ext cx="714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5 year metastatic dissemination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75560" y="4481640"/>
              <a:ext cx="71424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ffffff"/>
                  </a:solidFill>
                  <a:latin typeface="Book Antiqua"/>
                </a:rPr>
                <a:t>5 year quality of life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28480" y="3422520"/>
              <a:ext cx="42444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dfca"/>
                  </a:solidFill>
                  <a:latin typeface="Book Antiqua"/>
                </a:rPr>
                <a:t>Outcomes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59680" y="3422520"/>
              <a:ext cx="499320" cy="15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dfca"/>
                  </a:solidFill>
                  <a:latin typeface="Book Antiqua"/>
                </a:rPr>
                <a:t>Interventions</a:t>
              </a:r>
              <a:endParaRPr b="0" lang="en-US" sz="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88960" y="5832360"/>
            <a:ext cx="1676520" cy="691920"/>
            <a:chOff x="588960" y="5832360"/>
            <a:chExt cx="1676520" cy="691920"/>
          </a:xfrm>
        </p:grpSpPr>
        <p:sp>
          <p:nvSpPr>
            <p:cNvPr id="243" name=""/>
            <p:cNvSpPr/>
            <p:nvPr/>
          </p:nvSpPr>
          <p:spPr>
            <a:xfrm>
              <a:off x="588960" y="5838480"/>
              <a:ext cx="1676520" cy="68580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dfca"/>
                  </a:solidFill>
                  <a:latin typeface="Times New Roman"/>
                </a:rPr>
                <a:t>EH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9480" y="5832360"/>
              <a:ext cx="1650960" cy="18576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201240" y="4363920"/>
            <a:ext cx="1995840" cy="1458000"/>
            <a:chOff x="201240" y="4363920"/>
            <a:chExt cx="1995840" cy="1458000"/>
          </a:xfrm>
        </p:grpSpPr>
        <p:grpSp>
          <p:nvGrpSpPr>
            <p:cNvPr id="246" name=""/>
            <p:cNvGrpSpPr/>
            <p:nvPr/>
          </p:nvGrpSpPr>
          <p:grpSpPr>
            <a:xfrm>
              <a:off x="696960" y="4883040"/>
              <a:ext cx="1500120" cy="528480"/>
              <a:chOff x="696960" y="4883040"/>
              <a:chExt cx="1500120" cy="528480"/>
            </a:xfrm>
          </p:grpSpPr>
          <p:sp>
            <p:nvSpPr>
              <p:cNvPr id="247" name=""/>
              <p:cNvSpPr/>
              <p:nvPr/>
            </p:nvSpPr>
            <p:spPr>
              <a:xfrm>
                <a:off x="696960" y="4883040"/>
                <a:ext cx="1500120" cy="4968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25400" y="4890960"/>
                <a:ext cx="1468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Book Antiqua"/>
                  </a:rPr>
                  <a:t>LexGrid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 flipH="1">
              <a:off x="1464840" y="4363920"/>
              <a:ext cx="1800" cy="484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1430280" y="5415120"/>
              <a:ext cx="0" cy="38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2840" y="4417920"/>
              <a:ext cx="81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66ff"/>
                  </a:solidFill>
                  <a:latin typeface="Book Antiqua"/>
                </a:rPr>
                <a:t>UM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1240" y="5423040"/>
              <a:ext cx="118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66ff"/>
                  </a:solidFill>
                  <a:latin typeface="Book Antiqua"/>
                </a:rPr>
                <a:t>SNOM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181240" y="4398840"/>
            <a:ext cx="2674080" cy="1201680"/>
            <a:chOff x="2181240" y="4398840"/>
            <a:chExt cx="2674080" cy="1201680"/>
          </a:xfrm>
        </p:grpSpPr>
        <p:sp>
          <p:nvSpPr>
            <p:cNvPr id="254" name=""/>
            <p:cNvSpPr/>
            <p:nvPr/>
          </p:nvSpPr>
          <p:spPr>
            <a:xfrm>
              <a:off x="2859480" y="4775040"/>
              <a:ext cx="1995840" cy="825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Applicability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Engi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193840" y="5149800"/>
              <a:ext cx="56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2181240" y="4398840"/>
              <a:ext cx="612720" cy="47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620440" y="5735520"/>
            <a:ext cx="12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Book Antiqua"/>
              </a:rPr>
              <a:t>Core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759160" y="457056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fca"/>
                </a:solidFill>
                <a:latin typeface="Book Antiqua"/>
              </a:rPr>
              <a:t>Pres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401920" y="2200320"/>
            <a:ext cx="6487920" cy="1436400"/>
            <a:chOff x="2401920" y="2200320"/>
            <a:chExt cx="6487920" cy="1436400"/>
          </a:xfrm>
        </p:grpSpPr>
        <p:sp>
          <p:nvSpPr>
            <p:cNvPr id="260" name=""/>
            <p:cNvSpPr/>
            <p:nvPr/>
          </p:nvSpPr>
          <p:spPr>
            <a:xfrm flipV="1">
              <a:off x="2401920" y="2633400"/>
              <a:ext cx="3543120" cy="10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52960" y="2200320"/>
              <a:ext cx="2143800" cy="459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Meta-analysi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163000" y="2575080"/>
              <a:ext cx="726840" cy="73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307200" y="1611360"/>
            <a:ext cx="14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Book Antiqua"/>
              </a:rPr>
              <a:t>Core 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RCT Reference Ontology?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42600" y="1820880"/>
            <a:ext cx="9358200" cy="4378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monize RCT Schema with CDISC, caBIG, WHO, etc. through BRIDG (outside cB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t into OW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osit into O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 the “OBO Collaborator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6840"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Outline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2600" y="1739880"/>
            <a:ext cx="9358200" cy="4378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al Bank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P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6840"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7428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Timelines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674720"/>
            <a:ext cx="9623520" cy="4378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 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spcBef>
                <a:spcPts val="700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su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ar 2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spcBef>
                <a:spcPts val="700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spcBef>
                <a:spcPts val="700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a-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spcBef>
                <a:spcPts val="700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ng towards OB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840"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Summary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42960" y="1820880"/>
            <a:ext cx="9671040" cy="4378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66840" indent="-366840">
              <a:lnSpc>
                <a:spcPct val="90000"/>
              </a:lnSpc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trials are valuable source of biomedical knowled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6840" indent="-366840">
              <a:lnSpc>
                <a:spcPct val="90000"/>
              </a:lnSpc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al Bank captures RCTs to support understanding, analyzing, applying RCT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6840" indent="-366840">
              <a:lnSpc>
                <a:spcPct val="90000"/>
              </a:lnSpc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ives cBIO 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 1: visualization, terminology mapping,         Ocelot-&gt;OWL, RCT reference ont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 2: OBD, data interchange standard, meta-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Questions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42600" y="1820880"/>
            <a:ext cx="9358200" cy="4378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gro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0">
              <a:spcBef>
                <a:spcPts val="70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Domain Problem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5160" y="1701360"/>
            <a:ext cx="9358560" cy="4815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 fontScale="96000"/>
          </a:bodyPr>
          <a:p>
            <a:pPr marL="352080" indent="-352080">
              <a:lnSpc>
                <a:spcPct val="90000"/>
              </a:lnSpc>
              <a:spcBef>
                <a:spcPts val="601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t to advance clinical science and practice evidence-based medici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-2937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results from scientific experiments, e.g., from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randomized controlled trials (RC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-2937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domization equalizes known and unknown confounders between intervention a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55640" indent="-293760">
              <a:lnSpc>
                <a:spcPct val="9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y observed differences in outcome should be due only to the interv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830240" y="3338640"/>
            <a:ext cx="7076880" cy="1607400"/>
            <a:chOff x="1830240" y="3338640"/>
            <a:chExt cx="7076880" cy="1607400"/>
          </a:xfrm>
        </p:grpSpPr>
        <p:sp>
          <p:nvSpPr>
            <p:cNvPr id="54" name=""/>
            <p:cNvSpPr/>
            <p:nvPr/>
          </p:nvSpPr>
          <p:spPr>
            <a:xfrm>
              <a:off x="1830240" y="3960360"/>
              <a:ext cx="357120" cy="223920"/>
            </a:xfrm>
            <a:prstGeom prst="ellipse">
              <a:avLst/>
            </a:prstGeom>
            <a:solidFill>
              <a:srgbClr val="dc0081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90680" y="3364560"/>
              <a:ext cx="1466640" cy="318240"/>
            </a:xfrm>
            <a:prstGeom prst="rect">
              <a:avLst/>
            </a:prstGeom>
            <a:solidFill>
              <a:srgbClr val="b192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Drug 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38200" y="4475520"/>
              <a:ext cx="1467000" cy="318600"/>
            </a:xfrm>
            <a:prstGeom prst="rect">
              <a:avLst/>
            </a:prstGeom>
            <a:solidFill>
              <a:srgbClr val="b192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Placeb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2106360" y="3520800"/>
              <a:ext cx="1062000" cy="43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50640" y="4184280"/>
              <a:ext cx="1062000" cy="43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681080" y="3520800"/>
              <a:ext cx="139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16000" y="4649760"/>
              <a:ext cx="139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356160" y="3338640"/>
              <a:ext cx="255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Death at 1 ye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56160" y="4486320"/>
              <a:ext cx="255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Book Antiqua"/>
                </a:rPr>
                <a:t>Death at 1 yea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HIV Trials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600" y="1820880"/>
            <a:ext cx="9358200" cy="4378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controversial areas of HIV with conflicting RCT evi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spcBef>
                <a:spcPts val="700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vention of mother-to-child-transmission (MTC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spcBef>
                <a:spcPts val="700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d Treatment Interrup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complex heterogenous 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spcBef>
                <a:spcPts val="700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computational support to visualize, analyze, apply these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840"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2640" y="281160"/>
            <a:ext cx="10074240" cy="12175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br>
              <a:rPr sz="4700"/>
            </a:b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Need Computational KBs of RCTs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2600" y="1682280"/>
            <a:ext cx="9358200" cy="48150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66840" indent="-366840">
              <a:lnSpc>
                <a:spcPct val="90000"/>
              </a:lnSpc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CT journal articles not id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y descriptors of experimental method not always re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easily compu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840" indent="-366840">
              <a:lnSpc>
                <a:spcPct val="90000"/>
              </a:lnSpc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B of information on R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lnSpc>
                <a:spcPct val="9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840" indent="-366840">
              <a:lnSpc>
                <a:spcPct val="90000"/>
              </a:lnSpc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uld allow for better computer support for advancing clinical science and prac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Outline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2600" y="1739880"/>
            <a:ext cx="9358200" cy="4378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al Bank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DBP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6840" indent="0">
              <a:spcBef>
                <a:spcPts val="799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Trial Bank Software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01280" y="1566360"/>
            <a:ext cx="9358200" cy="26830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66840" indent="-366840">
              <a:lnSpc>
                <a:spcPct val="90000"/>
              </a:lnSpc>
              <a:spcBef>
                <a:spcPts val="601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k-a-T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-based program for entering trials into RCT Bank (annot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nical descriptions of trial features (slot values)  are in UMLS ter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6840" indent="-366840">
              <a:lnSpc>
                <a:spcPct val="90000"/>
              </a:lnSpc>
              <a:spcBef>
                <a:spcPts val="601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CT Presen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b-based browser of RCT Bank e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urePresenter for browsing restricted-access en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30520" y="4559400"/>
            <a:ext cx="2057400" cy="14144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946920" y="4559400"/>
            <a:ext cx="2057400" cy="141120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4549680" y="5397480"/>
            <a:ext cx="1676520" cy="6858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dfca"/>
                </a:solidFill>
                <a:latin typeface="Times New Roman"/>
              </a:rPr>
              <a:t>RCT Ban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940200" y="4940280"/>
            <a:ext cx="914400" cy="380880"/>
            <a:chOff x="3940200" y="4940280"/>
            <a:chExt cx="914400" cy="380880"/>
          </a:xfrm>
        </p:grpSpPr>
        <p:sp>
          <p:nvSpPr>
            <p:cNvPr id="75" name=""/>
            <p:cNvSpPr/>
            <p:nvPr/>
          </p:nvSpPr>
          <p:spPr>
            <a:xfrm>
              <a:off x="3940200" y="4940280"/>
              <a:ext cx="914400" cy="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54600" y="4940280"/>
              <a:ext cx="0" cy="38088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845320" y="4940280"/>
            <a:ext cx="914400" cy="380880"/>
            <a:chOff x="5845320" y="4940280"/>
            <a:chExt cx="914400" cy="380880"/>
          </a:xfrm>
        </p:grpSpPr>
        <p:sp>
          <p:nvSpPr>
            <p:cNvPr id="78" name=""/>
            <p:cNvSpPr/>
            <p:nvPr/>
          </p:nvSpPr>
          <p:spPr>
            <a:xfrm flipH="1">
              <a:off x="5845320" y="4940280"/>
              <a:ext cx="914400" cy="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45320" y="4940280"/>
              <a:ext cx="0" cy="38088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473200" y="4046400"/>
            <a:ext cx="21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dfca"/>
                </a:solidFill>
                <a:latin typeface="Times New Roman"/>
              </a:rPr>
              <a:t>Bank-a-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51520" y="4046400"/>
            <a:ext cx="23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dfca"/>
                </a:solidFill>
                <a:latin typeface="Times New Roman"/>
              </a:rPr>
              <a:t>RCT Pres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01920" y="3949560"/>
            <a:ext cx="7772400" cy="2362320"/>
          </a:xfrm>
          <a:prstGeom prst="rect">
            <a:avLst/>
          </a:prstGeom>
          <a:noFill/>
          <a:ln w="9360">
            <a:solidFill>
              <a:srgbClr val="00dfc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64000" y="5950080"/>
            <a:ext cx="162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dfca"/>
                </a:solidFill>
                <a:latin typeface="Times New Roman"/>
              </a:rPr>
              <a:t>(SecurePresent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0560" y="5391000"/>
            <a:ext cx="1650960" cy="18576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Ontology: RCT Schema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83920" y="1644120"/>
            <a:ext cx="9358200" cy="4783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66840" indent="-366840">
              <a:spcBef>
                <a:spcPts val="700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s clinical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spcBef>
                <a:spcPts val="601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ntiated using UMLS terms to describe clinical concep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6840" indent="-366840">
              <a:spcBef>
                <a:spcPts val="601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ame-based mode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n Ocelo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spcBef>
                <a:spcPts val="601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 levels de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6840" indent="-366840">
              <a:spcBef>
                <a:spcPts val="700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88 frames, 601 unique sl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spcBef>
                <a:spcPts val="601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erage 9.8 slots/fr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spcBef>
                <a:spcPts val="601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3 frames (7%) have multiple par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spcBef>
                <a:spcPts val="601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7/601 slots (31%) take other frames as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6840" indent="-366840">
              <a:spcBef>
                <a:spcPts val="700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ailable at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rctbank.ucsf.edu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6840" indent="0">
              <a:spcBef>
                <a:spcPts val="70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8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9358200" cy="12178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b">
            <a:noAutofit/>
          </a:bodyPr>
          <a:p>
            <a:pPr indent="0">
              <a:buNone/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4700" spc="-1" strike="noStrike">
                <a:solidFill>
                  <a:srgbClr val="fafd00"/>
                </a:solidFill>
                <a:latin typeface="Arial"/>
              </a:rPr>
              <a:t>RCT Presenter Demo</a:t>
            </a:r>
            <a:endParaRPr b="1" lang="en-US" sz="47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42600" y="1820880"/>
            <a:ext cx="9358200" cy="4378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9320" bIns="49320" anchor="t">
            <a:normAutofit/>
          </a:bodyPr>
          <a:p>
            <a:pPr marL="366840" indent="-366840">
              <a:spcBef>
                <a:spcPts val="799"/>
              </a:spcBef>
              <a:buClr>
                <a:srgbClr val="b192ff"/>
              </a:buClr>
              <a:buFont typeface="Palatino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CT Presenter is ope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-306360">
              <a:spcBef>
                <a:spcPts val="700"/>
              </a:spcBef>
              <a:buClr>
                <a:srgbClr val="fafd00"/>
              </a:buClr>
              <a:buSzPct val="75000"/>
              <a:buFont typeface="New York"/>
              <a:buChar char="»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rctbank.ucsf.edu/Presenter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873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6T15:50:05Z</dcterms:created>
  <dc:creator>Sim</dc:creator>
  <dc:description/>
  <dc:language>en-US</dc:language>
  <cp:lastModifiedBy>Ida Sim</cp:lastModifiedBy>
  <cp:lastPrinted>2004-05-28T00:07:52Z</cp:lastPrinted>
  <dcterms:modified xsi:type="dcterms:W3CDTF">2006-03-03T17:57:43Z</dcterms:modified>
  <cp:revision>1029</cp:revision>
  <dc:subject/>
  <dc:title>Trial Banks Affiliates Talk 3/3/98</dc:title>
</cp:coreProperties>
</file>